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8B41AB8-2F19-4979-A0D1-2DB14F176291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ink da precise indicazioni ad app_002.d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er costruire una scala di Osgood è necessari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dividuare l’oggetto sul quale si vogliono raccogliere atteggiamenti o reazion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lezionare le coppie di aggettivi adatti a valutare l’oggetto. Si devono scegliere aggettivi che possono essere applicati ai concetti prescelti e riferiti a tre dimensioni fondamentali: la valutazione (correlata alle coppie buono/cattivo; positivo/negativo; gentile/sgarbato); la potenza (forte/debole; leggero/pesante; aggressivo/pacifico) e l’attività (veloce/lento; attivo/passivo; giovane/vecchio) o almeno ad una di queste dimensioni. Per ogni scala si stabilisce un numero di punti corrispondenti al nuemro di intervalli prefissato (generalment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crivere la parola o la frase che designa l’oggetto della valutazione e farla seguire da aggettivi come nell’esempio sopra riporta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piegare, nelle istruzioni alla scala, che bisogna rispondere alla prova velocemente sulla base della prima impressione e senza riflettere trop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ito a scelat multipla. Risposte esatt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sa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 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rra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. La risposta seleziona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k risposta non fornit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magi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Nota programmatore pop up su cautele metodolog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 del pop u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hiarire l’argomento generale del colloquio, insieme agli obiettivi e agli scopi. La predeterminazione degli stimoli e delle risposte possibili consente al valutatore di mettere a punto una griglia, da utilizzare nel corso del colloquio, per registrare, con segni di codifica molto semplici la risposte che vengono date e comunque di poter valutare i dati raccolti con massima obiettività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iare il discorso da una domanda generale, per dare a ogni soggetto la possibilità di impostare il colloquio nel modo che ritiene più adegua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vitare di condizionare le risposte e di assumere comportamenti, verbali, non verbali che possano dimostrare disapprovazione o pregiudizi verso ciò che l’interlocutore sta dicendo. La strategia che si suggerisce di adottare è quella di partire da ciò che il soggetto esaminato decide di dire, nel modo che preferisce e nell’ordine di successione degli argomenti che sceglie, e solo successivamente intervenire per chiedere chiarimenti, precisazioni integra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inventari della personalit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tre metodi che generalmente si usano per misurare la personalità so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todescrizioni fornite dai sogg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st e tecniche proiettive che richiedono al soggetto di descrivere o interpretare materiale verbale o vis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ervazione del comportamento, basata sulla registrazione di informazioni da parte di un osservatore esterno attraverso l’impiego di diverse tecniche di osservazione: liste di controllo, analisi dei comportamenti espressivi e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tecniche per la misurazione degli inte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interessi sono generalmente misurati tramite questionari (inventari) che utilizzano sia domande della scala di atteggiamento sia quesiti autovalutativi. Vengono utilizzati per l’orientamento scolastico-profession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 imamgine 730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a programmatore: quesito a scelta multipla. Risposta esatt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atto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enzione, l’opzione da te selezionata non è cor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non forn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cco la risposta corretta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6DA5-04EB-4FEC-B15B-C9622935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A46-8726-4827-9B1D-7C74BD9C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C510-DE81-4A62-9660-6BF7D433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04E2-EB8A-4098-8AEE-5B77183B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32F-D062-487D-8539-8ADC0B87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35DF-C62D-4B34-909E-118B432D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DF99-A510-43B2-B7D5-081FA98E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68C-D109-4FE5-8E43-0E8D6982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2628-FC69-4E84-8CB6-B7DF97B4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1F7-CB8D-4720-8E15-7CEC7394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0DCD-0521-41E2-B246-2E6FEB1F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A160-7A68-4C74-AA29-3F73C432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7. Prove di personalità e attegg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1840" y="349200"/>
            <a:ext cx="1799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2713D40A-13EB-474F-8DB9-24DFF1CE98B4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6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7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5E42-F6F1-4561-AE66-9AF9485B1E8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768760"/>
            <a:ext cx="4800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257800"/>
            <a:ext cx="80769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 pulsante           per iniziare, o seleziona un titolo per andare direttamente all’argomento che ti interes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2311560" y="5321160"/>
            <a:ext cx="355320" cy="254160"/>
          </a:xfrm>
          <a:custGeom>
            <a:avLst/>
            <a:gdLst>
              <a:gd name="textAreaLeft" fmla="*/ 16200 w 355320"/>
              <a:gd name="textAreaRight" fmla="*/ 339120 w 355320"/>
              <a:gd name="textAreaTop" fmla="*/ 16200 h 254160"/>
              <a:gd name="textAreaBottom" fmla="*/ 237960 h 254160"/>
            </a:gdLst>
            <a:ahLst/>
            <a:rect l="textAreaLeft" t="textAreaTop" r="textAreaRight" b="textAreaBottom"/>
            <a:pathLst>
              <a:path w="30185" h="21600">
                <a:moveTo>
                  <a:pt x="0" y="0"/>
                </a:moveTo>
                <a:lnTo>
                  <a:pt x="30185" y="0"/>
                </a:lnTo>
                <a:lnTo>
                  <a:pt x="30185" y="21600"/>
                </a:lnTo>
                <a:lnTo>
                  <a:pt x="0" y="21600"/>
                </a:lnTo>
                <a:close/>
              </a:path>
              <a:path fill="lightenLess" w="30185" h="21600">
                <a:moveTo>
                  <a:pt x="0" y="0"/>
                </a:moveTo>
                <a:lnTo>
                  <a:pt x="30185" y="0"/>
                </a:lnTo>
                <a:lnTo>
                  <a:pt x="28785" y="1400"/>
                </a:lnTo>
                <a:lnTo>
                  <a:pt x="1400" y="1400"/>
                </a:lnTo>
                <a:close/>
              </a:path>
              <a:path fill="darken" w="30185" h="21600">
                <a:moveTo>
                  <a:pt x="30185" y="0"/>
                </a:moveTo>
                <a:lnTo>
                  <a:pt x="30185" y="21600"/>
                </a:lnTo>
                <a:lnTo>
                  <a:pt x="28785" y="20200"/>
                </a:lnTo>
                <a:lnTo>
                  <a:pt x="28785" y="1400"/>
                </a:lnTo>
                <a:close/>
              </a:path>
              <a:path fill="darkenLess" w="30185" h="21600">
                <a:moveTo>
                  <a:pt x="30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5" y="20200"/>
                </a:lnTo>
                <a:close/>
              </a:path>
              <a:path fill="lighten" w="30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85" h="21600">
                <a:moveTo>
                  <a:pt x="8086" y="3794"/>
                </a:moveTo>
                <a:lnTo>
                  <a:pt x="22099" y="10800"/>
                </a:lnTo>
                <a:lnTo>
                  <a:pt x="8086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0" y="2133720"/>
            <a:ext cx="39625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evalentemente utilizzato nella misura degli atteggiamenti è costituito dai differenti tipi delle cosiddett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Le scale di atteggiamento più diffuse sono quelle di Thurstone, Likert, Osgo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4387680"/>
            <a:ext cx="2286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36720" y="2770200"/>
            <a:ext cx="2518560" cy="39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3600" y="3608280"/>
            <a:ext cx="196380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276720"/>
            <a:ext cx="716292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371600"/>
            <a:ext cx="83059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siste in un elenco di affermazioni che esprimono una gamma di opinioni realative al’oggetto dell’atteggiamento: un fatto, una situaizone, una perso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affermazioni devono rappresentare le opzioni possibili, dall’atteggiamento più favorevole a quello meno favorevo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pito dei soggetti è quello di elencare le affermazioni con le quali si è in accordo o in disaccor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Thur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9240" y="3630600"/>
            <a:ext cx="4179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farsi rispettare dai più gi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e necessario i più vecchi possono picchiare i più piccoli per farsi obbed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sacrificarsi per aiutare i più giu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720" y="335916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62280" y="335268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429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1447920"/>
            <a:ext cx="83818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 metodo dei punteggi sommati è statat proposta per la prima volta intorno agli anni trenta (Likert 1932). Essa consente, meglio do quella di Thurstone di rilevare l’intensità di un atteggiamento e risulta essere oggi la procedura più utilizzata nella rilevazione degli atteggia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domande che compongono questa scala presentano una serie di affermazioni rispetto alle quali si chiede al soggetto di esprimere il proprio grado di accordo utilizzando una scala generalmente a cinque intervalli di rispos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Lik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05320"/>
            <a:ext cx="8076960" cy="22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96540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cuni insegnanti sanno coinvolgere gli studenti nelle loro le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i insegnanti dovrebbero essere pagati di pi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24560" y="3521160"/>
            <a:ext cx="103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75360" y="3581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93400" y="35812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46200" y="35812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72000" y="350532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1442880"/>
            <a:ext cx="86108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detta anche ‘differenziale semantico’ è stata elaborata, intornoagli anni ’50 da Osgood, Suci e Tanembaum. Obiettivo di questo strumento è quello di rilevare il grado di tensione emotiva, positiva o negativa, verso un dato concetto o term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scala può essere costruita utilizzando un qualunque tipo di coppie di aggettivi bipolari: sia aderenti alla realtà dell’oggetto da valutare, sia indipendenti dalla realtà dell’oggetto (nel senso che sono oggettivi che solitamente non si applicano all’oggetto da valutar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Os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3276720"/>
            <a:ext cx="655308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09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309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388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81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81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960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53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453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532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265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265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344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837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837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916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409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409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488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81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81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060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ffi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rgi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33526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lutazione della form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53341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empio di differenziale semantico con aggettivi aderenti alla realtà dell’ogge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86800" y="5835600"/>
            <a:ext cx="42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Tahoma"/>
              </a:rPr>
              <a:t>Fai clic qui per avere maggiori inform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1600200"/>
            <a:ext cx="775944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scala è quella rappresent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ogget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4114800"/>
            <a:ext cx="6629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di 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OSs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1040" y="553068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e risposte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209680"/>
            <a:ext cx="8076960" cy="160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26701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livello di interesse al corso da parte tua è st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68560" y="222552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6200" y="22860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73760" y="22860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0040" y="228600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91240" y="2209680"/>
            <a:ext cx="7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819520" y="2286000"/>
            <a:ext cx="4419360" cy="1523880"/>
            <a:chOff x="2819520" y="2286000"/>
            <a:chExt cx="4419360" cy="1523880"/>
          </a:xfrm>
        </p:grpSpPr>
        <p:sp>
          <p:nvSpPr>
            <p:cNvPr id="274" name=""/>
            <p:cNvSpPr/>
            <p:nvPr/>
          </p:nvSpPr>
          <p:spPr>
            <a:xfrm>
              <a:off x="388620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2286000"/>
              <a:ext cx="0" cy="14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8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447920"/>
            <a:ext cx="7696080" cy="44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er le ricerche riguardanti la misurazione e lo studio della psiche umana, del carattere, delle intenzioni e dell’intelligenza degli individui sono state costruite appositi strumenti di valutazione e  misura tra che possiamo classificare in due grandi categor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atteggia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sono costituite in gran parte da test di varia natura in particol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a misura degli atteggiamenti avviene utilizzando le cosidett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più diffuse sono quelle di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Osgo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029200" y="1600200"/>
            <a:ext cx="396252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isurazione e lo studio della psiche umana, del carattere, delle intenzioni e dell’intelligenza degli individui ha sempre affascinato i ricercatori nel campo dell’educazione della formazione e della psicolo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questo tipo di ricerche sono state costruite appositi strumenti di valutazione e  misura tra che possiamo classificare in due grandi categori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attegg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523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Stock_000000212340_1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45720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2895480"/>
            <a:ext cx="43434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no infatti costituite in gran parte da test di varia natura. Tra i principali tipi di test analizzere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958680"/>
            <a:ext cx="28191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3119" descr=""/>
          <p:cNvPicPr/>
          <p:nvPr/>
        </p:nvPicPr>
        <p:blipFill>
          <a:blip r:embed="rId1"/>
          <a:stretch/>
        </p:blipFill>
        <p:spPr>
          <a:xfrm>
            <a:off x="685800" y="1949400"/>
            <a:ext cx="2717640" cy="3721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90920" y="1371600"/>
            <a:ext cx="2666880" cy="1371600"/>
          </a:xfrm>
          <a:prstGeom prst="wedgeRectCallout">
            <a:avLst>
              <a:gd name="adj1" fmla="val -49462"/>
              <a:gd name="adj2" fmla="val 991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diamo ora quali sono le principali tipologie prove di personalità in relazione alle funzioni che essi intendono assolv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0" y="1482840"/>
            <a:ext cx="42670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st di intelligenz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surano abilità intellettive apprese senza un insegnamento specifico, come ad esempio, la capacità logica, l’intuizione, le correlazioni tra simboli numeri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ientrano in questo tipo di test: prove di abilità di attenzione, prove di abilità percettive, prove di abilità di memoria, prove di abilità linguistica, prove di abilità di ragionamento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lmente questi test danno luogo a un unico punteggio, ossia esprimono un quoziente di intelligenza (QI), che indica il livello intellettuale totale di un soggetto relativamente alla prestazione ha quello stesso test di un gruppo confrontab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958680"/>
            <a:ext cx="2590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 intellig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19000" y="1600200"/>
            <a:ext cx="3219480" cy="4108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4267080"/>
            <a:ext cx="2286000" cy="838440"/>
          </a:xfrm>
          <a:prstGeom prst="wedgeRectCallout">
            <a:avLst>
              <a:gd name="adj1" fmla="val 32916"/>
              <a:gd name="adj2" fmla="val -9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ico G, F, M, A, quale sarà la prossima lette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 test attitudi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1600200"/>
            <a:ext cx="426708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attitudine o attitudinal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ono basati sulle concezioni fattoriali dell’intelligenza e forniscono punteggi relativi alle diverse attitudini misurate in un soggett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differenza dei test di intelligenza che misurano una funzione ‘astratta’, queste prove trattano abilità più concrete (attitudini musicali, artistiche, meccaniche ec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ono utilizzati nella selezione del personale, per l’ammissione a corsi di addestramento, per l’orientamento professionale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si servono infatti a verificare le attitudini in relazione a mansioni e a ruoli cui saranno destinati i soggetti selezionati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73093" descr=""/>
          <p:cNvPicPr/>
          <p:nvPr/>
        </p:nvPicPr>
        <p:blipFill>
          <a:blip r:embed="rId1"/>
          <a:stretch/>
        </p:blipFill>
        <p:spPr>
          <a:xfrm>
            <a:off x="838080" y="1835280"/>
            <a:ext cx="2884680" cy="3949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23880" y="4648320"/>
            <a:ext cx="2743200" cy="1218960"/>
          </a:xfrm>
          <a:prstGeom prst="wedgeRectCallout">
            <a:avLst>
              <a:gd name="adj1" fmla="val -6597"/>
              <a:gd name="adj2" fmla="val -11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l test risulta una buona propensione nella gestione di progetti, ha mai avuto esperienze lavorative di questo tip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320" y="958680"/>
            <a:ext cx="23619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600200"/>
            <a:ext cx="8458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efiniti anche test non cognitivi, servono a valutare tutti quegli aspetti o tratti della personalità del soggetto, distinti dalle abilità cognitive come la motivazione, i sentimenti, i rapporti interpers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alcune variabili che possono essere misurate con i test dlla personalit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5276880"/>
            <a:ext cx="11514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3048120"/>
            <a:ext cx="3124080" cy="946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ratte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si riferisce alla misura in cui un soggetto si adegua a criteri largamente accettati di comportamento etico o mora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3048120"/>
            <a:ext cx="3124080" cy="1159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ratti social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ossia il comportamento di un individuao nei confronti di altre persone (timidezza, malinconia, umorisomo ec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4267080"/>
            <a:ext cx="289548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dattamento situazional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aspetti oggettivamente buoni o cattivi dell’ambiente familiare o scolastico di un ragaz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16000" y="4724280"/>
            <a:ext cx="193788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lattia 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48640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mente i test di personalità sono distiinti i tre categorie principali: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inventari della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tecniche per la misurazione degli interes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1833480"/>
            <a:ext cx="42670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ivilegiato per la misurazione delle variabili concernenti al dimensione affettivo esperenziale è rappresentato dall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tendia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concetto di atteggiamento non è solo caratterizzato dalla direzione a favore o sfavore di un certo oggetto ma anche dal grado di accordo o disaccordo definito come valen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73063" descr=""/>
          <p:cNvPicPr/>
          <p:nvPr/>
        </p:nvPicPr>
        <p:blipFill>
          <a:blip r:embed="rId1"/>
          <a:srcRect l="0" t="0" r="0" b="35904"/>
          <a:stretch/>
        </p:blipFill>
        <p:spPr>
          <a:xfrm>
            <a:off x="457200" y="2597040"/>
            <a:ext cx="3552840" cy="3117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1600200"/>
            <a:ext cx="2133720" cy="1523880"/>
          </a:xfrm>
          <a:prstGeom prst="cloudCallout">
            <a:avLst>
              <a:gd name="adj1" fmla="val -44421"/>
              <a:gd name="adj2" fmla="val 512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glio allacciare la cintura… non si sa mai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2836800"/>
            <a:ext cx="62481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mostra una forte carica aggressiva in situazioni di s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è favorevole all’introduzione dell’Eu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soffre di inson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ha un elevato quoziente intellet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95868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600200"/>
            <a:ext cx="7759440" cy="580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endo dalla definizione di atteggiamento, quale fra queste è la descrizione di un atteggiamento di un individuo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1040" y="548640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a risposta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2133720"/>
            <a:ext cx="419076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isurare e quantificare gli atteggiamenti, con uno specifico strumento, non è però un compito facile. È infatti difficile rendere ‘oggettivi’ stati mentali soggettivi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cora più difficile se si tratta di misurare attegiamenti su temi scotta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nza contare che talvolta l’atteggiamento non coincide con il comportamento: ad esempio non ritengo la carta di credito uno strumento di pagamento sicuro ma per alcuni acquisti sono costretto ad usar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78145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213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cp:keywords/>
  <dc:language>en-US</dc:language>
  <cp:lastModifiedBy>Università degli studi di Roma "La Sapienza"</cp:lastModifiedBy>
  <cp:lastPrinted>2000-05-14T18:13:16Z</cp:lastPrinted>
  <dcterms:modified xsi:type="dcterms:W3CDTF">2009-06-30T14:55:11Z</dcterms:modified>
  <cp:revision>320</cp:revision>
  <dc:subject>Presentazione piero</dc:subject>
  <dc:title>Presentazione forum P.A. del 9/05/96</dc:title>
</cp:coreProperties>
</file>